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A3A-9C57-4DC4-A69C-1FBA133D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0A7-2E1D-4D17-9D35-DF2788CE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F74-D865-4558-A340-C4C2C1D9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DCB-E15E-4A3E-9389-A83744D9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E58-FA55-4478-B928-FCC2107E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511-C3DA-4BDB-9C22-F2137CAA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475-BC1B-477C-B038-AD702E6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848-DA4E-4395-BF12-A1188601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937-2DEF-4A55-AF7B-F9DB153C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D0A-AD3E-4684-BC24-FD0B4E0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100-3093-49AE-834E-46E2465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35A-A719-4C3F-AEBC-259E0C5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3CEB-6E48-4C0B-A3A9-C2A2B2510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008000"/>
                </a:solidFill>
                <a:latin typeface="Times New Roman"/>
              </a:rPr>
              <a:t>Computer Crime</a:t>
            </a:r>
            <a:endParaRPr b="1" i="1" lang="en-US" sz="7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cond Part of Chapter 7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A gift of Fire – Sara Baase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Fraudulent appropriation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8000"/>
                </a:solidFill>
                <a:latin typeface="Times New Roman"/>
              </a:rPr>
              <a:t>Embezzlement is “fraudulent appropriation of property by a person to whom it has been trusted”.</a:t>
            </a: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Why?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76720" y="1218960"/>
            <a:ext cx="5867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lexity of modern transactions increase the opportunity for embezzlemen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complexity and anonymity of computers help hide sca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339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Victi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41972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rokerage 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surance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rge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Examples: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of insurance companies set up ph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y insurance policies and make claims on the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transfer large sums to Swiss bank account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create fake purchase orders for purchases from phoney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anies and cash the checks themselv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steal data from their employer’s computer and sell it to competitor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sabots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565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Sabotage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motivation for sabotage is not new, what is new is the ease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ith which a great amount of damage can be done using a comput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lack of violence or physical destruction might make the crime seem less serious both to its perpetrators and to juror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4826160"/>
            <a:ext cx="2666880" cy="2031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Reasons for sabotage: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who are fired or angry at their employees sabotage computer system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iles may be destroyed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gic bombs may be planted (software that destroys critical file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 system is sabotaged in the hope to be called and paid to fix i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anting to feel powerful or make people miserabl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161200" y="0"/>
            <a:ext cx="9828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Protection: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with access to sensitive systems should be rotat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ach employee should have its own user ID and passwor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D’s should limit the user’s activity to the actions the employee needs to perfor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No one person should have access to many parts of a syste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Industrial espionage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rge quantities of digital information can be copied quickl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re is no indication that a theft took place – nothing is missing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siders are paid for passwords – and the spying can be accomplished from a remote location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Trusting the system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intent to steal is not in the computer, but computers can make cheating harder to identify and correc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ome people trust the computer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thers are suspicious of anything that comes out of the machin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 should trust or distrust the company that is the owner of the computer syste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rust high ethical standards and care to avoid mistak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059680" y="0"/>
            <a:ext cx="1084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4120" y="4724280"/>
            <a:ext cx="3429000" cy="1846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Digital Forgery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uter systems enable people to make fakes with relative ease.  The equipment has improved in quality and prices have dropp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orgery of paper documents will still be a problem for some tim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yberspace will also have a problem with digital forgery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Crime fighting versus privacy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utomated surveillance software to browse through chat rooms and web sites looking for suspicious activity and build a database of suspicious posting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surveillance software monitors constantl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s this an invasion to privacy?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7054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Times New Roman"/>
              </a:rPr>
              <a:t>Fraud</a:t>
            </a:r>
            <a:endParaRPr b="1" i="1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Credit card fraud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2" action="ppaction://hlinksldjump"/>
              </a:rPr>
              <a:t>Identity Thef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3" action="ppaction://hlinksldjump"/>
              </a:rPr>
              <a:t>ATM Fraud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8000"/>
                </a:solidFill>
                <a:uFillTx/>
                <a:latin typeface="Times New Roman"/>
                <a:hlinkClick r:id="rId4" action="ppaction://hlinksldjump"/>
              </a:rPr>
              <a:t>Some</a:t>
            </a:r>
            <a:r>
              <a:rPr b="0" lang="es-ES_tradnl" sz="3200" spc="-1" strike="noStrike" u="sng">
                <a:solidFill>
                  <a:srgbClr val="008000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es-ES_tradnl" sz="3200" spc="-1" strike="noStrike" u="sng">
                <a:solidFill>
                  <a:srgbClr val="008000"/>
                </a:solidFill>
                <a:uFillTx/>
                <a:latin typeface="Times New Roman"/>
                <a:hlinkClick r:id="rId6" action="ppaction://hlinksldjump"/>
              </a:rPr>
              <a:t>sol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77240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Fi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7" action="ppaction://hlinksldjump"/>
              </a:rPr>
              <a:t>Embezz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8" action="ppaction://hlinksldjump"/>
              </a:rPr>
              <a:t>Sabo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9" action="ppaction://hlinksldjump"/>
              </a:rPr>
              <a:t>Industrial espio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10" action="ppaction://hlinksldjump"/>
              </a:rPr>
              <a:t>rust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Digital Fo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11" action="ppaction://hlinksldjump"/>
              </a:rPr>
              <a:t>Fighting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3200400" y="4267080"/>
            <a:ext cx="182412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001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Using biometrics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ometrics are biological characteristics that are unique to an individual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ingerprint, voice prints, face, hand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geometry, retina scans and DNA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ometric technology for identification applications is rapidly developing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ome applications are for comfort but the most important are for security and fraud prevention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8000"/>
                </a:solidFill>
                <a:latin typeface="Times New Roman"/>
              </a:rPr>
              <a:t>Examples of use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pening a door by touching a scanner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sing a face scanner to prevent a person from applying for an additional driver’s license or welfare benefits with different nam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umbprint match to logon into a comput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irports restrict access to certain areas with thumbprint checking.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982440" cy="982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Problems with biometrics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Hackers may capture biometrics data and send the information to gain acces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hen a credit card number is stolen a new one is issued – a finger print cannot be changed.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crease use of biometrics can increase surveillance and tracking of activities by government agenci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Credit card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tealing of credit card numbers by store clerks, thieves searching trash near stores, or fake phone call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se of counterfeit cards – reprogramming the magnetic strip with a different account numb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tealing numbers from the web – on transmission or from stored files. (electronic shoplifting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lso: Some users claim not to have ordered or received a good they have order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Why do these frauds occur?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ustomers do not want to take the time to provide full identification or wait while the merchants check i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ustomers may be offended by requests for I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oses from most credit cards are absorbed by the credit card issuers, not the merchant =&gt; the merchant does not have much incentive to check the card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n the Web the charges have to be absorbed by the merchant as there is no customer’s signatur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Identity Theft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ur identity is now a numb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nsequences of identity theft may cause little money loss but great anguish including: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ose a good credit rating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prevented from borrowing money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prevented from cashing check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ose a job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unable to rent an apartmen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sued by creditors to whom the criminal owes mone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2000" y="4121280"/>
            <a:ext cx="3132000" cy="2776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ATM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ieves need the PIN number from a customer and the card (or a copy of the card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Click for an example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in Spanish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http://mimagen.com/popup/20030527elpepusoc_1_G_SWF.swf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20720"/>
            <a:ext cx="1719360" cy="1808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Telecommunications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sing robbed calling card number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loning cellular phones (making them transmit another user’s serial number at the beginning of each call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Preventing credit card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anies keep a record of stolen cards in the computer and stores are now connected to the company comput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New cards sent by post require the user to enter specific identification data before the card is activated. (or even use caller ID to recognize the users’ home phone number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oftware recognizes unusual spending activit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34440" y="3425760"/>
            <a:ext cx="1609560" cy="3432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8000"/>
                </a:solidFill>
                <a:latin typeface="Times New Roman"/>
              </a:rPr>
              <a:t>Preventing</a:t>
            </a: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 ATM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designing ATM to make the keyboard less visible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re is a limit for cash withdrawal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High activity at a particular machine is check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anks stopped printing the complete account number on receipt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37:15Z</dcterms:created>
  <dc:creator>SSS</dc:creator>
  <dc:description/>
  <dc:language>en-US</dc:language>
  <cp:lastModifiedBy>Elizabeth-PC</cp:lastModifiedBy>
  <dcterms:modified xsi:type="dcterms:W3CDTF">2004-11-13T12:27:36Z</dcterms:modified>
  <cp:revision>47</cp:revision>
  <dc:subject/>
  <dc:title>Computer Crime</dc:title>
</cp:coreProperties>
</file>